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6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0.jpeg" ContentType="image/jpeg"/>
  <Override PartName="/ppt/media/image21.wmf" ContentType="image/x-wmf"/>
  <Override PartName="/ppt/media/image18.png" ContentType="image/png"/>
  <Override PartName="/ppt/media/image28.jpeg" ContentType="image/jpeg"/>
  <Override PartName="/ppt/media/image36.jpeg" ContentType="image/jpeg"/>
  <Override PartName="/ppt/media/image10.wmf" ContentType="image/x-wmf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34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5.jpeg" ContentType="image/jpeg"/>
  <Override PartName="/ppt/media/image38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4145040" y="70956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684000" y="245880"/>
            <a:ext cx="2933640" cy="21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4145040" y="1420560"/>
            <a:ext cx="3170160" cy="479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145040" y="205056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90D6514-9199-415C-8EAC-9C748BF72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AEBC046-F330-4C04-9C27-81D36260B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BBC4A47-AD41-43F8-8B11-78F5455FD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135BD80-FF31-45C1-A63E-4159C8FB9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5BF47B0-42EE-42C3-B808-D0FE1E003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19452A9-AFDA-441B-B9CB-FEF8D6875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86D2995-5F9A-483E-A00D-2FFC2B7FA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C82363F-8017-4DEB-8046-E3F371346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CCA3574-315D-4D4B-8B93-955AECA30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F96D38F-B069-4097-BF98-E29CA7792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109E601-A2A8-402A-8C6B-E4C6C12F8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FE7A2D4-6902-4578-ABAD-F1A5D6233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CF965F8-021F-4C27-AD06-39C1E7E14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E107568-EAB7-4D2E-B930-A5B577024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CFEAA2B-3887-4C78-AAF1-4C6A7DC61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18729E3-CFA2-414F-AE2C-4F7001FBB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B19296D-894F-4E26-A246-EF70C7FAA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C3A55B2-FD5C-4FD6-AB63-E0AFAB2B4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33F353D-17E6-496D-88AC-BF0D9FEA9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F72272B-EA4B-4F67-902D-A1E9B3C7C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3B1D8D3-9656-4DB0-9498-52D5667AB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19FD47F-502B-49EE-8ECD-336878A86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EF8896C-A397-4E5C-883A-A8B6F65F7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3B4886E-38FC-4D42-903A-2BE1EC4E4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7653ECA-97DA-4D50-8F5B-AB2C72DA8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6A48B6E-0024-46DA-B543-5F5ABEC1F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B4434A3-197D-4623-8303-9EB36D655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0BB4C04-3696-4E0E-B87E-09E531583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4D03DF5-9A41-4DDF-85B3-F6A9F1C7C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A52E8A0-FA96-41A2-9653-51DF6FEB2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F236FB2-594C-42C5-B453-3423C9391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0842656-5C8D-4A4A-B40F-E775DDC5A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3E92A51-6F8A-4DB8-AC3D-4E2D3F75B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4176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1F02-4D35-421A-B2DE-FA4FBBF10D7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4" name="Picture 10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8491680" y="5578560"/>
            <a:ext cx="664920" cy="12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6727680" y="2190600"/>
            <a:ext cx="2428920" cy="466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3719-1536-409C-983F-A2743D4097B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1000" y="1599840"/>
            <a:ext cx="76705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first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secon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thir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Frictional forc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law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Circular Mo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51200" y="4863960"/>
            <a:ext cx="44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Isaac Newton’s work represents one of the greatest contributions to science ever made by an individual.</a:t>
            </a:r>
            <a:endParaRPr b="1" lang="en-US" sz="1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2" name="Picture 6" descr="newton"/>
          <p:cNvPicPr/>
          <p:nvPr/>
        </p:nvPicPr>
        <p:blipFill>
          <a:blip r:embed="rId1"/>
          <a:stretch/>
        </p:blipFill>
        <p:spPr>
          <a:xfrm>
            <a:off x="5702400" y="1752480"/>
            <a:ext cx="2333520" cy="312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484F-1B75-4E80-8BC9-8B89D3F537A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ine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3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kinetic friction acts when the object is in mo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lthough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can vary with speed, we shall neglect any such variat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5" name="Picture 4" descr="0516b"/>
          <p:cNvPicPr/>
          <p:nvPr/>
        </p:nvPicPr>
        <p:blipFill>
          <a:blip r:embed="rId1"/>
          <a:stretch/>
        </p:blipFill>
        <p:spPr>
          <a:xfrm>
            <a:off x="5084640" y="1447920"/>
            <a:ext cx="31654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CE5F-B9B3-4EAC-98D1-EC9750952CE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plore Forces of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ary the applied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the value of the friction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mpare the valu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what happens when the can starts to mov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9" name="Picture 4" descr="0516"/>
          <p:cNvPicPr/>
          <p:nvPr/>
        </p:nvPicPr>
        <p:blipFill>
          <a:blip r:embed="rId1"/>
          <a:stretch/>
        </p:blipFill>
        <p:spPr>
          <a:xfrm>
            <a:off x="5032440" y="1447920"/>
            <a:ext cx="326844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908E-3088-4A43-B4FD-9DF38FFA9DD8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Hints for 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-Solv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58720" y="1231920"/>
            <a:ext cx="833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Read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problem carefully at least onc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a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picture of the system, identify the object of primary interest, and  indicate forces with arrow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each force in the picture in a way that will bring to mind what physical quantity the label stands for (e.g., T for tensio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a free-body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diagra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of the object of interest, based on the labeled picture. If additional objects are involved, draw separate free-body diagram for them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Choose a convenient coordinate syste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for each objec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Apply Newton’s second law.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x- and y-components of Newton second law should be taken from the vector equation and written individually. This often results in two equations and two unknow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Solve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for the desired unknown quantity, and substitute the numb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654280" y="5346720"/>
                <a:ext cx="1612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838760" y="5343480"/>
                <a:ext cx="1676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FB1D-C7C0-44F4-B172-5B1B3D444CC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Object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in Equilibrium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15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Objects that are either at rest or moving with constant velocity are said to be in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quilibriu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celeration of an object can be modeled as zero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:  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thematically, the net force acting on the object is zer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Equivalent to the set of component equations given by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3701880" y="3808440"/>
                <a:ext cx="1155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133720" y="2851200"/>
                <a:ext cx="939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2927520" y="5016600"/>
                <a:ext cx="1268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6"/>
              <p:cNvSpPr txBox="1"/>
              <p:nvPr/>
            </p:nvSpPr>
            <p:spPr>
              <a:xfrm>
                <a:off x="5119560" y="5013360"/>
                <a:ext cx="1317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6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2322-43C7-4BA3-9123-04383D8133C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546120" y="1409760"/>
            <a:ext cx="8140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What is the smallest value of the force F such that the 2.0-kg block will not slide down the wall? The coefficient of static friction between the block and the wall is 0.2. ?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Equilibrium, Example 1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6127920" y="3292560"/>
            <a:ext cx="1949400" cy="2171520"/>
            <a:chOff x="6127920" y="3292560"/>
            <a:chExt cx="1949400" cy="2171520"/>
          </a:xfrm>
        </p:grpSpPr>
        <p:sp>
          <p:nvSpPr>
            <p:cNvPr id="186" name="Line 10"/>
            <p:cNvSpPr/>
            <p:nvPr/>
          </p:nvSpPr>
          <p:spPr>
            <a:xfrm>
              <a:off x="8077320" y="3292560"/>
              <a:ext cx="0" cy="21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320240" y="3872880"/>
              <a:ext cx="724680" cy="1085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>
              <a:off x="6127920" y="4453200"/>
              <a:ext cx="120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6192720" y="38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pSp>
        <p:nvGrpSpPr>
          <p:cNvPr id="190" name="Group 81"/>
          <p:cNvGrpSpPr/>
          <p:nvPr/>
        </p:nvGrpSpPr>
        <p:grpSpPr>
          <a:xfrm>
            <a:off x="1765440" y="3381480"/>
            <a:ext cx="2388600" cy="2244600"/>
            <a:chOff x="1765440" y="3381480"/>
            <a:chExt cx="2388600" cy="2244600"/>
          </a:xfrm>
        </p:grpSpPr>
        <p:grpSp>
          <p:nvGrpSpPr>
            <p:cNvPr id="191" name="Group 70"/>
            <p:cNvGrpSpPr/>
            <p:nvPr/>
          </p:nvGrpSpPr>
          <p:grpSpPr>
            <a:xfrm>
              <a:off x="1765440" y="3381480"/>
              <a:ext cx="2388600" cy="2237760"/>
              <a:chOff x="1765440" y="3381480"/>
              <a:chExt cx="2388600" cy="2237760"/>
            </a:xfrm>
          </p:grpSpPr>
          <p:sp>
            <p:nvSpPr>
              <p:cNvPr id="192" name="Line 71"/>
              <p:cNvSpPr/>
              <p:nvPr/>
            </p:nvSpPr>
            <p:spPr>
              <a:xfrm>
                <a:off x="3321000" y="3381480"/>
                <a:ext cx="0" cy="217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3" name="Rectangle 72"/>
              <p:cNvSpPr/>
              <p:nvPr/>
            </p:nvSpPr>
            <p:spPr>
              <a:xfrm>
                <a:off x="2563920" y="3962520"/>
                <a:ext cx="725040" cy="1085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4" name="Text Box 73"/>
              <p:cNvSpPr/>
              <p:nvPr/>
            </p:nvSpPr>
            <p:spPr>
              <a:xfrm>
                <a:off x="2290320" y="5159520"/>
                <a:ext cx="58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mg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5" name="Line 74"/>
              <p:cNvSpPr/>
              <p:nvPr/>
            </p:nvSpPr>
            <p:spPr>
              <a:xfrm>
                <a:off x="1765440" y="4503600"/>
                <a:ext cx="12078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6" name="Text Box 75"/>
              <p:cNvSpPr/>
              <p:nvPr/>
            </p:nvSpPr>
            <p:spPr>
              <a:xfrm>
                <a:off x="1787760" y="3914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7" name="Text Box 76"/>
              <p:cNvSpPr/>
              <p:nvPr/>
            </p:nvSpPr>
            <p:spPr>
              <a:xfrm>
                <a:off x="2468160" y="3381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8" name="Line 77"/>
              <p:cNvSpPr/>
              <p:nvPr/>
            </p:nvSpPr>
            <p:spPr>
              <a:xfrm>
                <a:off x="2978280" y="3390840"/>
                <a:ext cx="0" cy="1130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9" name="Line 78"/>
              <p:cNvSpPr/>
              <p:nvPr/>
            </p:nvSpPr>
            <p:spPr>
              <a:xfrm>
                <a:off x="2946240" y="4503600"/>
                <a:ext cx="12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200" name="Text Box 79"/>
              <p:cNvSpPr/>
              <p:nvPr/>
            </p:nvSpPr>
            <p:spPr>
              <a:xfrm>
                <a:off x="3633480" y="39276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Line 80"/>
            <p:cNvSpPr/>
            <p:nvPr/>
          </p:nvSpPr>
          <p:spPr>
            <a:xfrm>
              <a:off x="2978280" y="4495680"/>
              <a:ext cx="0" cy="11304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825A-E610-46AC-8DF5-6CC28029E1A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ccelerating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f an object that can be modeled as a particle experiences an acceleration, there must be a nonzero net force acting on i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raw a free-body diagra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pply Newton’s Second Law in component for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3240000" y="3922560"/>
                <a:ext cx="1911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1585800" y="4876920"/>
                <a:ext cx="19195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4332240" y="4835520"/>
                <a:ext cx="2024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E4FF-B344-44F3-B9E9-2B17D1FC60C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409104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uppose a block with a mass of 2.50 kg is resting on a ramp. If the coefficient of static friction between the block and ramp is 0.350, what maximum angle can the ramp make with the horizontal before the block starts to slip down?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1" name="Picture 4" descr="0518"/>
          <p:cNvPicPr/>
          <p:nvPr/>
        </p:nvPicPr>
        <p:blipFill>
          <a:blip r:embed="rId1"/>
          <a:stretch/>
        </p:blipFill>
        <p:spPr>
          <a:xfrm>
            <a:off x="4794120" y="1474920"/>
            <a:ext cx="41594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B166-5789-4E96-8FDF-BA5660BB743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Newton 2nd law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Then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o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4" name="Picture 4" descr="0518"/>
          <p:cNvPicPr/>
          <p:nvPr/>
        </p:nvPicPr>
        <p:blipFill>
          <a:blip r:embed="rId1"/>
          <a:stretch/>
        </p:blipFill>
        <p:spPr>
          <a:xfrm>
            <a:off x="4678200" y="965160"/>
            <a:ext cx="4313520" cy="3444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816120" y="2055960"/>
                <a:ext cx="33717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1898640" y="3378240"/>
                <a:ext cx="1792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8"/>
              <p:cNvSpPr txBox="1"/>
              <p:nvPr/>
            </p:nvSpPr>
            <p:spPr>
              <a:xfrm>
                <a:off x="752400" y="3860640"/>
                <a:ext cx="4037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565280" y="4570560"/>
                <a:ext cx="2408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1204920" y="5141880"/>
                <a:ext cx="3103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0C07-BA1E-4E40-990C-75827893F5A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79000" y="3603240"/>
            <a:ext cx="84582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block of mass m1 on a rough, horizontal surface is connected to a ball of mass m2 by a lightweight cord over a lightweight, frictionless pulley as shown in figure. A force of magnitude F at an angle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1" i="1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with the horizontal is applied to the block as shown and the block slides to the right. The coefficient of kinetic friction between the block and surface is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μ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k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  <a:ea typeface="宋体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Find the magnitude of acceleration of the two object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4" name="Picture 4" descr="0520"/>
          <p:cNvPicPr/>
          <p:nvPr/>
        </p:nvPicPr>
        <p:blipFill>
          <a:blip r:embed="rId1"/>
          <a:stretch/>
        </p:blipFill>
        <p:spPr>
          <a:xfrm>
            <a:off x="1522440" y="1028880"/>
            <a:ext cx="563076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773A-D3B8-460E-BB9E-211378F1495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7" name="Picture 4" descr="0520"/>
          <p:cNvPicPr/>
          <p:nvPr/>
        </p:nvPicPr>
        <p:blipFill>
          <a:blip r:embed="rId1"/>
          <a:stretch/>
        </p:blipFill>
        <p:spPr>
          <a:xfrm>
            <a:off x="5046840" y="1665360"/>
            <a:ext cx="3805200" cy="1658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8680" y="1345680"/>
            <a:ext cx="370836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1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517760" y="2573280"/>
                <a:ext cx="3444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557360" y="1467000"/>
                <a:ext cx="4049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1644480" y="3624120"/>
                <a:ext cx="20480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1539720" y="4044960"/>
                <a:ext cx="3375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1238400" y="4680000"/>
                <a:ext cx="509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1"/>
              <p:cNvSpPr txBox="1"/>
              <p:nvPr/>
            </p:nvSpPr>
            <p:spPr>
              <a:xfrm>
                <a:off x="1446120" y="5207040"/>
                <a:ext cx="4375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2"/>
              <p:cNvSpPr txBox="1"/>
              <p:nvPr/>
            </p:nvSpPr>
            <p:spPr>
              <a:xfrm>
                <a:off x="1712880" y="3166920"/>
                <a:ext cx="1630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272E-1378-409F-BED0-900EE2DAC84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77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52560" y="3124080"/>
            <a:ext cx="72914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If no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cts on a body, then the body’s velocity cannot chang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a body is equal to the product of the body’s mass and accelera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When two bodies interact,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the bodies from each other are always equal in magnitude and opposite in direc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6" name="Picture 4" descr="newton"/>
          <p:cNvPicPr/>
          <p:nvPr/>
        </p:nvPicPr>
        <p:blipFill>
          <a:blip r:embed="rId1"/>
          <a:stretch/>
        </p:blipFill>
        <p:spPr>
          <a:xfrm>
            <a:off x="0" y="0"/>
            <a:ext cx="2300400" cy="29955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124080" y="0"/>
            <a:ext cx="5791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Force is a vector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Unit of force in S.I.: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3340080" y="1219320"/>
            <a:ext cx="2355840" cy="93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ED25-3590-4469-AC34-EAA3452652D3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37" name="Picture 2" descr="0602"/>
          <p:cNvPicPr/>
          <p:nvPr/>
        </p:nvPicPr>
        <p:blipFill>
          <a:blip r:embed="rId1"/>
          <a:stretch/>
        </p:blipFill>
        <p:spPr>
          <a:xfrm>
            <a:off x="5202360" y="1260360"/>
            <a:ext cx="2913120" cy="33465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2194560" y="4038480"/>
            <a:ext cx="42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niform circular mo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-27360" y="495288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speed, or,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magnitude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233440" y="4572000"/>
            <a:ext cx="1524240" cy="0"/>
          </a:xfrm>
          <a:prstGeom prst="line">
            <a:avLst/>
          </a:prstGeom>
          <a:ln w="57240">
            <a:solidFill>
              <a:srgbClr val="dc0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 flipH="1">
            <a:off x="2462040" y="4572000"/>
            <a:ext cx="152640" cy="304920"/>
          </a:xfrm>
          <a:prstGeom prst="line">
            <a:avLst/>
          </a:prstGeom>
          <a:ln w="936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859200" y="457200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638680" y="457200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717440" y="4952880"/>
            <a:ext cx="44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tion along a circle: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nging direction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45" name="Picture 10" descr="0601"/>
          <p:cNvPicPr/>
          <p:nvPr/>
        </p:nvPicPr>
        <p:blipFill>
          <a:blip r:embed="rId2"/>
          <a:stretch/>
        </p:blipFill>
        <p:spPr>
          <a:xfrm>
            <a:off x="1122480" y="1244520"/>
            <a:ext cx="2859120" cy="2873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1"/>
          <p:cNvSpPr/>
          <p:nvPr/>
        </p:nvSpPr>
        <p:spPr>
          <a:xfrm>
            <a:off x="366840" y="96840"/>
            <a:ext cx="848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Defini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 flipV="1">
            <a:off x="6616800" y="1765440"/>
            <a:ext cx="1041480" cy="87624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7658280" y="1765440"/>
            <a:ext cx="457200" cy="533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B724-EA05-44BE-AF1C-8C49F064BFD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287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Observation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49120" y="1387440"/>
            <a:ext cx="50612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bject moving along a curved path with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onstant speed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Magnitud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 of velocity: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same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Direction of velocity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Velocity    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Acceleration is NOT zero!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Net force acting on an object is NOT zer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Centripetal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”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52" name="Picture 4" descr="FG06_12"/>
          <p:cNvPicPr/>
          <p:nvPr/>
        </p:nvPicPr>
        <p:blipFill>
          <a:blip r:embed="rId1"/>
          <a:stretch/>
        </p:blipFill>
        <p:spPr>
          <a:xfrm>
            <a:off x="5410080" y="1544760"/>
            <a:ext cx="3508560" cy="321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5956200" y="5038560"/>
                <a:ext cx="21988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2197080" y="3568680"/>
                <a:ext cx="353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1608-9870-42BD-8BDF-3DC76431DBA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03280" y="1374840"/>
            <a:ext cx="478152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entripetal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46160" y="133200"/>
            <a:ext cx="87786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Uniform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ircular Mo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023840" y="2649600"/>
                <a:ext cx="289728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so,   </m:t>
                        </m:r>
                        <m:r>
                          <m:t xml:space="preserve">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6388200" y="1785960"/>
            <a:ext cx="9360" cy="7542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 flipV="1">
            <a:off x="5373720" y="6219720"/>
            <a:ext cx="57456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5386320" y="6602400"/>
            <a:ext cx="57312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4853160" y="2957400"/>
            <a:ext cx="3078000" cy="2908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V="1">
            <a:off x="6399360" y="2655360"/>
            <a:ext cx="0" cy="341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4681440" y="4417920"/>
            <a:ext cx="375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 flipV="1">
            <a:off x="5580000" y="2779560"/>
            <a:ext cx="57456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7211880" y="3147840"/>
            <a:ext cx="57492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6354720" y="4375080"/>
            <a:ext cx="57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8093160" y="4522680"/>
            <a:ext cx="530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6399360" y="2455920"/>
            <a:ext cx="809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5586480" y="363204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6945480" y="33559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2" name="Line 18"/>
          <p:cNvSpPr/>
          <p:nvPr/>
        </p:nvSpPr>
        <p:spPr>
          <a:xfrm flipH="1" flipV="1">
            <a:off x="5578560" y="3143160"/>
            <a:ext cx="822240" cy="12700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5145120" y="26622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7095960" y="257004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552780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711828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5472000" y="240048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6388200" y="3187800"/>
            <a:ext cx="787320" cy="121896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6792840" y="368316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7377120" y="278136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>
            <a:off x="5600880" y="3174840"/>
            <a:ext cx="1549080" cy="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6132600" y="318780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5573880" y="14605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4" name="Text Box 30"/>
          <p:cNvSpPr/>
          <p:nvPr/>
        </p:nvSpPr>
        <p:spPr>
          <a:xfrm>
            <a:off x="5624640" y="219708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5" name="Text Box 31"/>
          <p:cNvSpPr/>
          <p:nvPr/>
        </p:nvSpPr>
        <p:spPr>
          <a:xfrm>
            <a:off x="6475320" y="1841400"/>
            <a:ext cx="1881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 =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2"/>
              <p:cNvSpPr txBox="1"/>
              <p:nvPr/>
            </p:nvSpPr>
            <p:spPr>
              <a:xfrm>
                <a:off x="2811600" y="1855800"/>
                <a:ext cx="1861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3"/>
              <p:cNvSpPr txBox="1"/>
              <p:nvPr/>
            </p:nvSpPr>
            <p:spPr>
              <a:xfrm>
                <a:off x="1031760" y="2089080"/>
                <a:ext cx="1255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2362 -0.15 E">
                                      <p:cBhvr>
                                        <p:cTn id="161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37 L -0.15695 -0.14259 E">
                                      <p:cBhvr>
                                        <p:cTn id="16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274C-03A1-4D00-B244-A14E536DF30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Uniform Circular Mo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9440" y="1206360"/>
            <a:ext cx="5295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elocity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constant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direction of the velocity is tangent to the cir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ed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eriod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ime interval required for one complete revolution of the parti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3225960" y="28288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5370480" y="5229360"/>
                <a:ext cx="10954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602136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D4F7-933D-401A-9B19-62BEF4D2FA3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Centripetal Forc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9440" y="1206000"/>
            <a:ext cx="541044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rce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rt from Newton’s 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Law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3314880" y="12286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3095640" y="3708360"/>
                <a:ext cx="1252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8"/>
              <p:cNvSpPr txBox="1"/>
              <p:nvPr/>
            </p:nvSpPr>
            <p:spPr>
              <a:xfrm>
                <a:off x="588168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2895480" y="4361040"/>
                <a:ext cx="208764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Line 10"/>
          <p:cNvSpPr/>
          <p:nvPr/>
        </p:nvSpPr>
        <p:spPr>
          <a:xfrm flipV="1">
            <a:off x="6858000" y="3565080"/>
            <a:ext cx="38088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7086600" y="3718080"/>
          <a:ext cx="679320" cy="59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3718080"/>
                    <a:ext cx="67932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Line 12"/>
          <p:cNvSpPr/>
          <p:nvPr/>
        </p:nvSpPr>
        <p:spPr>
          <a:xfrm>
            <a:off x="6832440" y="2282760"/>
            <a:ext cx="38124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9" name="Object 13"/>
          <p:cNvGraphicFramePr/>
          <p:nvPr/>
        </p:nvGraphicFramePr>
        <p:xfrm>
          <a:off x="6451560" y="2587680"/>
          <a:ext cx="679320" cy="59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51560" y="25876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Line 14"/>
          <p:cNvSpPr/>
          <p:nvPr/>
        </p:nvSpPr>
        <p:spPr>
          <a:xfrm flipH="1">
            <a:off x="7709040" y="3286080"/>
            <a:ext cx="799920" cy="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12" name="Object 15"/>
          <p:cNvGraphicFramePr/>
          <p:nvPr/>
        </p:nvGraphicFramePr>
        <p:xfrm>
          <a:off x="7632720" y="2600280"/>
          <a:ext cx="679320" cy="59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3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720" y="26002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4" name="Object 16"/>
              <p:cNvSpPr txBox="1"/>
              <p:nvPr/>
            </p:nvSpPr>
            <p:spPr>
              <a:xfrm>
                <a:off x="7080120" y="1355760"/>
                <a:ext cx="1282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7"/>
              <p:cNvSpPr txBox="1"/>
              <p:nvPr/>
            </p:nvSpPr>
            <p:spPr>
              <a:xfrm>
                <a:off x="6397560" y="5126040"/>
                <a:ext cx="1251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2895-A8B5-4FA0-96F4-2D194D7E131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9440" y="12700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not a new kind of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refers to any force that keeps an object following a circular pat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a combination of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Gravitational forc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 downward to the groun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rmal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perpendicular to the surfa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ension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along the cord and away from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force: 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0" i="1" lang="en-US" sz="2400" spc="-1" strike="noStrike" baseline="30000">
                <a:solidFill>
                  <a:srgbClr val="0000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  <a:ea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6472080" y="2278080"/>
                <a:ext cx="1943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C378-B38C-4011-9276-D5C12B64FC5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6170760" y="4368960"/>
            <a:ext cx="3571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1353960" y="4265640"/>
                <a:ext cx="18939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5045040" y="1647720"/>
                <a:ext cx="30034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5" name="Group 6"/>
          <p:cNvGrpSpPr/>
          <p:nvPr/>
        </p:nvGrpSpPr>
        <p:grpSpPr>
          <a:xfrm>
            <a:off x="5219280" y="2209320"/>
            <a:ext cx="2838600" cy="3189240"/>
            <a:chOff x="5219280" y="2209320"/>
            <a:chExt cx="2838600" cy="3189240"/>
          </a:xfrm>
        </p:grpSpPr>
        <p:sp>
          <p:nvSpPr>
            <p:cNvPr id="326" name="AutoShape 7"/>
            <p:cNvSpPr/>
            <p:nvPr/>
          </p:nvSpPr>
          <p:spPr>
            <a:xfrm rot="10800000">
              <a:off x="5219280" y="2209320"/>
              <a:ext cx="2838600" cy="3189240"/>
            </a:xfrm>
            <a:custGeom>
              <a:avLst/>
              <a:gdLst>
                <a:gd name="textAreaLeft" fmla="*/ 50760 w 2838600"/>
                <a:gd name="textAreaRight" fmla="*/ 2787840 w 2838600"/>
                <a:gd name="textAreaTop" fmla="*/ 0 h 3189240"/>
                <a:gd name="textAreaBottom" fmla="*/ 1954080 h 318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9" y="10620"/>
                  </a:moveTo>
                  <a:cubicBezTo>
                    <a:pt x="1727" y="5625"/>
                    <a:pt x="5804" y="1628"/>
                    <a:pt x="10800" y="1628"/>
                  </a:cubicBezTo>
                  <a:cubicBezTo>
                    <a:pt x="15795" y="1628"/>
                    <a:pt x="19872" y="5625"/>
                    <a:pt x="19970" y="10620"/>
                  </a:cubicBezTo>
                  <a:lnTo>
                    <a:pt x="21597" y="10588"/>
                  </a:lnTo>
                  <a:cubicBezTo>
                    <a:pt x="21482" y="4707"/>
                    <a:pt x="16682" y="0"/>
                    <a:pt x="10799" y="0"/>
                  </a:cubicBezTo>
                  <a:cubicBezTo>
                    <a:pt x="4917" y="0"/>
                    <a:pt x="117" y="4707"/>
                    <a:pt x="2" y="10588"/>
                  </a:cubicBezTo>
                  <a:lnTo>
                    <a:pt x="1629" y="1062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6553080" y="50036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28" name="Line 9"/>
          <p:cNvSpPr/>
          <p:nvPr/>
        </p:nvSpPr>
        <p:spPr>
          <a:xfrm>
            <a:off x="6629400" y="5092560"/>
            <a:ext cx="0" cy="77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780240" y="543564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g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 flipV="1">
            <a:off x="6629400" y="4368960"/>
            <a:ext cx="12600" cy="7286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6742080" y="3898800"/>
            <a:ext cx="420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 flipV="1">
            <a:off x="6502320" y="4280040"/>
            <a:ext cx="0" cy="660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33" name="Picture 14" descr="0601"/>
          <p:cNvPicPr/>
          <p:nvPr/>
        </p:nvPicPr>
        <p:blipFill>
          <a:blip r:embed="rId1"/>
          <a:stretch/>
        </p:blipFill>
        <p:spPr>
          <a:xfrm>
            <a:off x="1065240" y="1434960"/>
            <a:ext cx="2530440" cy="254484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1"/>
          <p:cNvGrpSpPr/>
          <p:nvPr/>
        </p:nvGrpSpPr>
        <p:grpSpPr>
          <a:xfrm>
            <a:off x="6642000" y="4541760"/>
            <a:ext cx="533520" cy="530280"/>
            <a:chOff x="6642000" y="4541760"/>
            <a:chExt cx="533520" cy="530280"/>
          </a:xfrm>
        </p:grpSpPr>
        <p:sp>
          <p:nvSpPr>
            <p:cNvPr id="335" name="Line 11"/>
            <p:cNvSpPr/>
            <p:nvPr/>
          </p:nvSpPr>
          <p:spPr>
            <a:xfrm>
              <a:off x="6642000" y="5072040"/>
              <a:ext cx="533520" cy="0"/>
            </a:xfrm>
            <a:prstGeom prst="line">
              <a:avLst/>
            </a:prstGeom>
            <a:ln w="38160">
              <a:solidFill>
                <a:srgbClr val="5c5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36" name="Text Box 2"/>
            <p:cNvSpPr/>
            <p:nvPr/>
          </p:nvSpPr>
          <p:spPr>
            <a:xfrm>
              <a:off x="6766560" y="4541760"/>
              <a:ext cx="357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endParaRPr b="1" lang="en-US" sz="28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37" name="Line 11"/>
          <p:cNvSpPr/>
          <p:nvPr/>
        </p:nvSpPr>
        <p:spPr>
          <a:xfrm flipV="1">
            <a:off x="6629400" y="3898800"/>
            <a:ext cx="0" cy="11858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DD98-3744-45B7-80E6-55F806C023A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blem Solving Strateg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raw a free body diagra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showing and labeling all the forces acting on the object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oose a coordinate syste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that has one axis perpendicular to the circular path and the other axis tangent to the circular pat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nd the net force toward the center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circular path (this is the force that causes the centripetal acceleration, F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Use Newton’s second la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directions will be radial, normal, and tangentia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acceleration in the radial direction will be the centripetal accelerat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olve for the unknown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7F97-ECAE-4E90-AFA8-996CE754ECB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42" name="Picture 2" descr="0603b"/>
          <p:cNvPicPr/>
          <p:nvPr/>
        </p:nvPicPr>
        <p:blipFill>
          <a:blip r:embed="rId1"/>
          <a:srcRect l="0" t="0" r="0" b="12947"/>
          <a:stretch/>
        </p:blipFill>
        <p:spPr>
          <a:xfrm>
            <a:off x="3505320" y="2922480"/>
            <a:ext cx="1666800" cy="31384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small ball of mas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kg is suspended from a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tring of length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m.  The ball revolves with constant speed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in a horizontal circle of radiu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2 m. Find an expression for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and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851040" y="3581280"/>
            <a:ext cx="1752480" cy="1815840"/>
            <a:chOff x="851040" y="3581280"/>
            <a:chExt cx="1752480" cy="1815840"/>
          </a:xfrm>
        </p:grpSpPr>
        <p:sp>
          <p:nvSpPr>
            <p:cNvPr id="346" name="Oval 6"/>
            <p:cNvSpPr/>
            <p:nvPr/>
          </p:nvSpPr>
          <p:spPr>
            <a:xfrm>
              <a:off x="1028880" y="4749480"/>
              <a:ext cx="1574640" cy="6476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1257480" y="3581280"/>
              <a:ext cx="1130400" cy="20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851040" y="4927320"/>
              <a:ext cx="330120" cy="330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 flipH="1">
              <a:off x="1091880" y="3784320"/>
              <a:ext cx="736920" cy="116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50" name="Line 10"/>
          <p:cNvSpPr/>
          <p:nvPr/>
        </p:nvSpPr>
        <p:spPr>
          <a:xfrm>
            <a:off x="1015920" y="5105520"/>
            <a:ext cx="0" cy="635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1015920" y="4470120"/>
            <a:ext cx="39384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65000" y="5603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052640" y="409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1816200" y="3772080"/>
            <a:ext cx="0" cy="1295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1519560" y="40086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C21A-0DF0-4CB9-A89D-3FC0F9F9768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57" name="Picture 2" descr="0603b"/>
          <p:cNvPicPr/>
          <p:nvPr/>
        </p:nvPicPr>
        <p:blipFill>
          <a:blip r:embed="rId1"/>
          <a:stretch/>
        </p:blipFill>
        <p:spPr>
          <a:xfrm>
            <a:off x="457200" y="1969920"/>
            <a:ext cx="1666800" cy="3605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2382840" y="1905120"/>
                <a:ext cx="300996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5641920" y="1836720"/>
                <a:ext cx="306252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m/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Text Box 6"/>
          <p:cNvSpPr/>
          <p:nvPr/>
        </p:nvSpPr>
        <p:spPr>
          <a:xfrm>
            <a:off x="593640" y="1278000"/>
            <a:ext cx="31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nd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CC70-41A2-431F-861B-B4FAA196B8A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537000" y="3200400"/>
            <a:ext cx="2057400" cy="1222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Forc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280" y="1447920"/>
            <a:ext cx="46609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he measure of interaction betwee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wo objec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Vector quantity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: has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magnitude and direc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y be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ct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r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eld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Particular forc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Gravita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Frict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Tens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Norm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Spring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823000" y="4165560"/>
            <a:ext cx="2933640" cy="178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7715160" y="190440"/>
            <a:ext cx="1428840" cy="194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bongi"/>
          <p:cNvPicPr/>
          <p:nvPr/>
        </p:nvPicPr>
        <p:blipFill>
          <a:blip r:embed="rId4"/>
          <a:stretch/>
        </p:blipFill>
        <p:spPr>
          <a:xfrm>
            <a:off x="6121440" y="2251080"/>
            <a:ext cx="2211480" cy="173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TN00332_"/>
          <p:cNvPicPr/>
          <p:nvPr/>
        </p:nvPicPr>
        <p:blipFill>
          <a:blip r:embed="rId5"/>
          <a:stretch/>
        </p:blipFill>
        <p:spPr>
          <a:xfrm>
            <a:off x="76320" y="76320"/>
            <a:ext cx="2293920" cy="1139760"/>
          </a:xfrm>
          <a:prstGeom prst="rect">
            <a:avLst/>
          </a:prstGeom>
          <a:ln w="0">
            <a:noFill/>
          </a:ln>
        </p:spPr>
      </p:pic>
      <p:sp>
        <p:nvSpPr>
          <p:cNvPr id="107" name="Line 9"/>
          <p:cNvSpPr/>
          <p:nvPr/>
        </p:nvSpPr>
        <p:spPr>
          <a:xfrm>
            <a:off x="7448400" y="2832120"/>
            <a:ext cx="0" cy="76212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22440" y="111744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1536840" y="965160"/>
            <a:ext cx="976320" cy="304920"/>
          </a:xfrm>
          <a:prstGeom prst="leftArrow">
            <a:avLst>
              <a:gd name="adj1" fmla="val 50000"/>
              <a:gd name="adj2" fmla="val 8004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6"/>
          <a:stretch/>
        </p:blipFill>
        <p:spPr>
          <a:xfrm>
            <a:off x="3606840" y="4559400"/>
            <a:ext cx="18874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4363-71AF-45A6-A2CD-F7F55ACDDF7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60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1500 kg car moving on a flat, horizontal road negotiates a curve as shown. If the radius of the curve is 35.0 m and the coefficient of static friction between the tires and dry pavement is 0.523, find the maximum speed the car can have and still make the turn successfully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6222960" y="3598920"/>
            <a:ext cx="2052720" cy="248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0604a"/>
          <p:cNvPicPr/>
          <p:nvPr/>
        </p:nvPicPr>
        <p:blipFill>
          <a:blip r:embed="rId2"/>
          <a:stretch/>
        </p:blipFill>
        <p:spPr>
          <a:xfrm>
            <a:off x="5958000" y="1249200"/>
            <a:ext cx="2909880" cy="23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74EE-C912-47AF-B504-DEA349F483E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static friction directed toward the center of the curve keeps the car moving in a circular path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5969160" y="2989440"/>
            <a:ext cx="2278080" cy="275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965160" y="2884320"/>
                <a:ext cx="458460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mg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D833-F7D3-46B8-87E5-8C4C1454915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257480"/>
            <a:ext cx="474516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car moving at the designated speed can negotiate the curve. Such a ramp is usually banked, which means that the roadway is tilted toward the inside of the curve. Suppose the designated speed for the ramp is to be 13.4 m/s and the radius of the curve is 35.0 m. At what angle should the curve be banked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A44C-EC03-4999-872A-89202EDCA35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3" name="Object 5"/>
              <p:cNvSpPr txBox="1"/>
              <p:nvPr/>
            </p:nvSpPr>
            <p:spPr>
              <a:xfrm>
                <a:off x="716040" y="1822320"/>
                <a:ext cx="421632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m/s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m/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6F53-3C9B-45F4-BC47-2D6FB89E358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vitational Forc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46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Gravitational force is a vect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magnitude of the gravitational force acting on an object of mass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ar the Earth’s surface is called the weight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w = 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vertically downwar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ongi"/>
          <p:cNvPicPr/>
          <p:nvPr/>
        </p:nvPicPr>
        <p:blipFill>
          <a:blip r:embed="rId2"/>
          <a:stretch/>
        </p:blipFill>
        <p:spPr>
          <a:xfrm>
            <a:off x="5861160" y="3638520"/>
            <a:ext cx="273204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>
            <a:off x="7518240" y="4368960"/>
            <a:ext cx="0" cy="12826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1725480" y="4429080"/>
            <a:ext cx="1979640" cy="1614600"/>
          </a:xfrm>
          <a:prstGeom prst="rect">
            <a:avLst/>
          </a:prstGeom>
          <a:ln w="0">
            <a:noFill/>
          </a:ln>
        </p:spPr>
      </p:pic>
      <p:sp>
        <p:nvSpPr>
          <p:cNvPr id="118" name="Line 8"/>
          <p:cNvSpPr/>
          <p:nvPr/>
        </p:nvSpPr>
        <p:spPr>
          <a:xfrm>
            <a:off x="2705040" y="4673520"/>
            <a:ext cx="0" cy="1371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916080" y="45036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m: Mass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741840" y="5138640"/>
            <a:ext cx="18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g = 9.8 m/s</a:t>
            </a:r>
            <a:r>
              <a:rPr b="1" lang="en-US" sz="24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6800760" y="1911240"/>
                <a:ext cx="1649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0913-2B50-464E-81D5-7FE8820CDB8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Normal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Force from a solid surface which keeps object from falling throug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perpendicular to the surfa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not necessary to b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6261120" y="2451240"/>
                <a:ext cx="8128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827600" y="1293840"/>
            <a:ext cx="3171960" cy="278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478480" y="4206960"/>
                <a:ext cx="1919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5732640" y="5365800"/>
                <a:ext cx="1155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5462640" y="4753080"/>
                <a:ext cx="2001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0766-F1A2-4B7A-BADC-2B259C953F0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548240" y="1324080"/>
            <a:ext cx="4606920" cy="1644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Tension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520" y="1447920"/>
            <a:ext cx="44575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 taut rope exerts forces on whatever holds its end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along the cord (rope, cable, string ……) and away from the objec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depend on situ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5629320" y="2881440"/>
            <a:ext cx="283824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4708440" y="3789360"/>
            <a:ext cx="3544920" cy="2289240"/>
          </a:xfrm>
          <a:prstGeom prst="rect">
            <a:avLst/>
          </a:prstGeom>
          <a:ln w="0">
            <a:noFill/>
          </a:ln>
        </p:spPr>
      </p:pic>
      <p:sp>
        <p:nvSpPr>
          <p:cNvPr id="136" name="Line 7"/>
          <p:cNvSpPr/>
          <p:nvPr/>
        </p:nvSpPr>
        <p:spPr>
          <a:xfrm flipH="1" flipV="1">
            <a:off x="5753160" y="4140000"/>
            <a:ext cx="596880" cy="36828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5359320" y="4419360"/>
            <a:ext cx="0" cy="63972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853600" y="37749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837320" y="45752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167600" y="4295880"/>
            <a:ext cx="174600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 = T = 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A2D7-F2D8-49F0-826E-DE6B3740FCD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83920" y="1397160"/>
            <a:ext cx="789948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hen an object is in motion on a surface or through a viscous medium, there will be a resistance to the mo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s resistance is called the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force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This is due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o the interactions between the object and its environmen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e will be concerned with two types of fric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sta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kine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opposite the direction of the intended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moving: in direction opposite the veloc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stationary, in direction of the vector sum of other forc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757920" y="1886040"/>
            <a:ext cx="2386080" cy="2462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friction"/>
          <p:cNvPicPr/>
          <p:nvPr/>
        </p:nvPicPr>
        <p:blipFill>
          <a:blip r:embed="rId2"/>
          <a:stretch/>
        </p:blipFill>
        <p:spPr>
          <a:xfrm>
            <a:off x="5122800" y="1878120"/>
            <a:ext cx="1849680" cy="24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B20A-F307-42B1-A538-4A3A478818B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480" y="1359000"/>
            <a:ext cx="477504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iction is proportional to the norm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Sta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F </a:t>
            </a:r>
            <a:r>
              <a:rPr b="0" i="1" lang="en-US" sz="2400" spc="-1" strike="noStrike">
                <a:solidFill>
                  <a:srgbClr val="dc0c3e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s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Kine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k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 is the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coefficient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coefficients of friction are nearly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dependent of the area of contact (why?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agnitu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9" name="Picture 4" descr="05T1"/>
          <p:cNvPicPr/>
          <p:nvPr/>
        </p:nvPicPr>
        <p:blipFill>
          <a:blip r:embed="rId1"/>
          <a:stretch/>
        </p:blipFill>
        <p:spPr>
          <a:xfrm>
            <a:off x="4767120" y="1380960"/>
            <a:ext cx="4351320" cy="41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B650-9294-4E7D-A9EA-0837D242900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ta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acts to keep the object from mov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Remember, the equality holds when the surfaces are on the verge of slipping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165320" y="2163600"/>
          <a:ext cx="23796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163600"/>
                    <a:ext cx="2379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5"/>
          <p:cNvGraphicFramePr/>
          <p:nvPr/>
        </p:nvGraphicFramePr>
        <p:xfrm>
          <a:off x="1181160" y="2557440"/>
          <a:ext cx="2379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557440"/>
                    <a:ext cx="237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3962520" y="2149560"/>
          <a:ext cx="3794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49560"/>
                    <a:ext cx="379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4013280" y="2581200"/>
          <a:ext cx="3571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13280" y="2581200"/>
                    <a:ext cx="357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8" descr="0516a"/>
          <p:cNvPicPr/>
          <p:nvPr/>
        </p:nvPicPr>
        <p:blipFill>
          <a:blip r:embed="rId9"/>
          <a:stretch/>
        </p:blipFill>
        <p:spPr>
          <a:xfrm>
            <a:off x="5562720" y="1608120"/>
            <a:ext cx="2889000" cy="37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38:32Z</dcterms:created>
  <dc:creator>Gary</dc:creator>
  <dc:description/>
  <dc:language>en-US</dc:language>
  <cp:lastModifiedBy>Asus</cp:lastModifiedBy>
  <dcterms:modified xsi:type="dcterms:W3CDTF">2018-03-09T16:21:03Z</dcterms:modified>
  <cp:revision>346</cp:revision>
  <dc:subject/>
  <dc:title>PowerPoint Presentation</dc:title>
</cp:coreProperties>
</file>